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A6E6-4C61-40D0-9A45-11513779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FEA0-BD42-446A-83FA-AEC51278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9C77-904E-4DD2-9966-44B87B13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C064-4426-45C7-8BFD-983FC7910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17EE-76FE-4155-B304-B2D68790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2B1B-1A67-4071-8C6F-5B511A44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D5D7-78BC-412C-9C8F-32024E19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6E5C-BB60-47CD-B5C8-DCF96856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1179-8FC1-4E34-8763-EF69FB3A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8309-4C0B-4B37-A1AE-0CD0D007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3A5F-87EF-4B5D-95F8-FF8C632F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9A27-E558-4DE0-83E3-15729722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1A42-DA70-4F3C-A1AA-945017C93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TROL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Manualul de Chim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clasa a X-a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Rodica Constantinescu, Maria-Luiza Popesc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ele cercetări legate de cunoaşterea compoz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iei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ui românesc au fost iniţiate la sfârşitul secolului trecut de către Petru Poni (1841 - 1925) la Iaşi, care a izolat anumiţi termeni ai seriilor de hidrocarburi din pe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 un amestec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lex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de hidrocarburi gazoase şi solide, dizolvate în hidrocarburi lichide. Hidrocarburile frecvent întâlnite în compoziţia petrolului aparţin în general seriei alcanilor, cicloalcanilor (naftene) şi arene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lchenele şi alchinele mai reactive lipsesc din petrol. Pe lângă hidrocarburile menţionate, în petrol mai apar şi compuşi organici cu oxigen, azot sau sulf, în cantităţi foarte mic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lful trebuie îndepărtat în cursul prelucrării petrolului, deoarece prin ardere rezultă dioxid de sulf (un gaz corozi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funcţie de locul zăcământului şi de condiţiile în care acesta s-a format, în compoziţia petrolului pot predomina una sau alta dintre aceste clase de hidrocarbur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5105520" y="1676520"/>
            <a:ext cx="143496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 lichid vâscos, de culoare brună, cu fluorescenţă verde-albăstruie, cu miros 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ensitatea petrolului este mai mică decât a apei, variind între 0,800 şi 0,930 g/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e insolubil în apă, formând cu aceasta o emuls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 este procesul în care au loc ruperi ale unor legături simple C-C din alcani şi cicloalcani. Cracarea poate fi termică sau catalit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teriile prime folosite la cracarea termică sunt motorina şi păcura, iar produşii rezultaţi sunt alcani şi alchene inferioare, numite gaze de cracare, benzină de cracare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racarea catalitică foloseşte în special motorina ca materie primă. Se obţin gaze de rafinărie, benzină mai bună decât cea obţinută prin cracarea termică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Ştiaţi c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În urma prelucrării complexe a petrolului se obţin circa 300 de prod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etanul este principalul constituent al gazelor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Gazele naturale, care însoţesc în general zăcămintele de petrol, sunt o sursă de materii prime pentru obţinerea de produse: îngrăşăminte, mase plastice, cauciuc cloroprenic, acetilenă, metanol, formaldehidă, solvenţi, hidrogen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s25</cp:lastModifiedBy>
  <dcterms:modified xsi:type="dcterms:W3CDTF">2012-06-19T11:33:49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